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68A9-F3A9-4DDE-8B9F-95770490E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422B-6B77-4F35-B58E-EF50EE7B1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B888-FDE4-4297-A9D8-209DC30C5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75FF-08F4-4462-8BF2-22AB85D184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D5A4-670E-4CCE-B11E-966F0CF42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9473-3284-4B7F-9349-66A398FF5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76A1-CB9B-4732-87C3-8AEBC50EF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F61A-76D9-4091-83AA-250FE9CCB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E7B6-4947-4F54-9C97-CD0A7C62C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166C-5F25-4FBE-AB4E-E60A6752D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3091-13E8-411F-A29E-D5AC3045E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5DDB-79A4-410A-94D9-65F4DEA92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c7ac4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90E5-6F3E-4E16-8782-F3F9EF2623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Ringer: 10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pinion based off Ancient Egypt Geo, what are the pro and cons to living in Ancient Egy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9F40-0203-409A-BEE1-E987A1DDAF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7: Computer H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8: Hieroglyphics c-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1792-36CD-4D62-88B7-296BC9E91C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oglyph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00200" y="4800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 rot="16200000">
            <a:off x="3767760" y="187920"/>
            <a:ext cx="19828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What is a Hierogly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0b00"/>
                </a:solidFill>
                <a:latin typeface="Arial"/>
              </a:rPr>
              <a:t>What the ancient egyptians used to write w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871560" y="1674720"/>
            <a:ext cx="33606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How The Alphabe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divided into 4 categori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2712"/>
                </a:solidFill>
                <a:latin typeface="Arial"/>
              </a:rPr>
              <a:t>Alphabetic signs represent a single soun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2000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2712"/>
                </a:solidFill>
                <a:latin typeface="Arial"/>
              </a:rPr>
              <a:t>We may never know how the words were form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869000" y="1687680"/>
            <a:ext cx="3597120" cy="4349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fe"/>
                </a:solidFill>
                <a:latin typeface="Arial"/>
              </a:rPr>
              <a:t>How Did You Learn To Write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03440" y="1625400"/>
            <a:ext cx="5143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You attend a special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Master of writing hieroglyphics= Sc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80836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What Are Scrib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People who attend a 5 year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Usually men but there was women doctors who were able to read hieroglyph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04920" y="804960"/>
            <a:ext cx="3711600" cy="6053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ibe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Most often it was the children of scribes who learned hierogly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any craftsmen were able to get there kids into the school. But, it was very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554640" cy="492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953551</dc:creator>
  <dc:description/>
  <cp:keywords/>
  <dc:language>en-US</dc:language>
  <cp:lastModifiedBy>TylerDaughtry</cp:lastModifiedBy>
  <dcterms:modified xsi:type="dcterms:W3CDTF">2013-10-02T12:03:03Z</dcterms:modified>
  <cp:revision>4</cp:revision>
  <dc:subject/>
  <dc:title>Hieroglyphics </dc:title>
</cp:coreProperties>
</file>